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77D-098B-49C7-AD3C-E89E5A76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3F4-05FC-488F-BF99-79B0CA47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DFB-ECDF-4A57-A7B2-DCD6E8D0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8F4-68A5-4668-9AA9-49F9CE16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B0E2-B0CD-4392-A30B-A01CE88E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E56-5BAA-4FC6-BAEE-50264427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5C1C-147C-42FC-8CBD-489142EC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3F94-6278-4B3A-9AD5-AA77B2A3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81C-E53B-45E0-86AC-51327DB5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7CBC-C575-4C83-825B-91031037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BF55-3312-49AF-B7FA-BB7B4AE1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F68F-A1C0-490D-8F24-C5BEC784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618A-4644-406F-975C-F9D7186C6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 / comprar / tra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O. , I.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off to work we g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buy you 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intur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cart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you 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intur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cart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intur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cart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intur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cart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intur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cart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intur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81952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 compro un cinturó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 buy them 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3962520"/>
            <a:ext cx="327636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pl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 buy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3962520"/>
            <a:ext cx="327636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pl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 buy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962520"/>
            <a:ext cx="327636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pl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e gives me 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53341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4100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We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3962520"/>
            <a:ext cx="327636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pl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We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pl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We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pl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We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We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2438280"/>
            <a:ext cx="7391160" cy="18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 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e gives me 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me 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me 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e gives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3341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54100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743200"/>
            <a:ext cx="609624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 da el diner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y give us 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y give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y give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They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They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They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They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e gives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53341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54100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They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2666880"/>
            <a:ext cx="70866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 dan el regal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give you 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5562720"/>
            <a:ext cx="411480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puls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you 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5562720"/>
            <a:ext cx="411480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puls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you 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5562720"/>
            <a:ext cx="411480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puls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5562720"/>
            <a:ext cx="411480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puls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5562720"/>
            <a:ext cx="411480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puls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5562720"/>
            <a:ext cx="411480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puls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2209680"/>
            <a:ext cx="70866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 doy un anill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e brings them dinn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53341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4100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He bring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m dinn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He bring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nn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He bring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dinn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He bring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dinn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He bring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dinn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2362320"/>
            <a:ext cx="75438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 trae la cen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bring you 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800600" y="5334120"/>
            <a:ext cx="41148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os are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bring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5334120"/>
            <a:ext cx="41148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os are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bring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800600" y="5334120"/>
            <a:ext cx="41148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os are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br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00600" y="5334120"/>
            <a:ext cx="41148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os are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br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00600" y="5334120"/>
            <a:ext cx="41148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os are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54100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br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00600" y="5334120"/>
            <a:ext cx="41148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os are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br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br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14400" y="2133720"/>
            <a:ext cx="66294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 traigo un colla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We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bracele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38080" y="297180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 damos una pulser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give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hi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watch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297180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 doy un reloj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They give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jewelr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297180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 dan las joya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give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297180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 doy el cinturó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She give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compact disc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14400" y="2971800"/>
            <a:ext cx="769608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 d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sco compact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914400" y="2971800"/>
            <a:ext cx="769608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54100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362320"/>
            <a:ext cx="7238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 da la bols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10:34:05Z</dcterms:created>
  <dc:creator>Paul Widergren</dc:creator>
  <dc:description/>
  <dc:language>en-US</dc:language>
  <cp:lastModifiedBy>Paul Widergren</cp:lastModifiedBy>
  <dcterms:modified xsi:type="dcterms:W3CDTF">2004-05-13T11:25:38Z</dcterms:modified>
  <cp:revision>3</cp:revision>
  <dc:subject/>
  <dc:title>dar / comprar / traer</dc:title>
</cp:coreProperties>
</file>